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CF8-2B66-4C45-9B1F-64CEA5B6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A5D-E978-4915-98E9-C0CC9C6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C3F-C634-4069-8DF6-EB0645F4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58A-3F42-4FC6-8D85-FF824D2D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82A-5B6B-43A2-9395-8AEB5ED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AC9-BC29-4C99-B230-1226AF7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750-3950-49B9-8E6E-780C027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F63-1D9E-4F0E-88B5-3D4D4C1A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9A3-299B-453D-A430-82F91FCC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88F-EF8C-4859-8569-7D345ED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894-E23B-42A0-AC57-F8C4F59E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26C-6994-46BE-8125-AB1EA1F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9C2-465D-4A40-B513-186B1020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FUNCIONES SINTÁCT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de régimen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reposición la que necesita el verbo para comple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verbos como: confiar en, pensar en,  desconfiar 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 verbos pronominales: acordarse de, desvivirse por, decidirse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on verbos en voz pasiva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sintagma preposicional con “p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que confundirlo con el complemento circunstancial de ca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volver la oración a activa hace de sujeto agente de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JE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RTA EN NÚMERO Y PERSONA CON 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ESTAR ELIDIDO U OMI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ORACIONES IMPERSONALES QUE NO TIENEN SU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METEOR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ER NO AUXILIAR EN 3ª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“SER” Y “HACER” CON PALABRAS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FEMA IMPERSONAL “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predicado 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OS COPULATIVOS: SER , ESTAR, PARECER ( también pueden ser no copulativos cuando no lleven atrib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ERBO ES LA COPULA ENTRE EL SUJETO Y EL ATRIBUTO Y NO TIENE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TRIBUTO PUE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adje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intagma preposicional equivalente a un ad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sustituir por “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 al verbo a ¿cóm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mplementos del verb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do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direc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con verbos tran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intagma nominal con un sustantivo o pronombre personal como núcl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es un sintagma preposicional con “a” ( con animad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que padece la acción del verbo y al convertir la oración en pasiva pasa a ser sujeto pa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sustituir por : lo, los, la ,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persona que se beneficia o daña con la acción del ver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es un sintagma preposicional con “a” o un sintagma nominal con pronombr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volver la oración a pasiva queda con la misma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sustituir por: le ,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el leísmo tolerado con el masculino si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circunsta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sintagma nominal, adverbial o preposicional que expresa una circunstancia del ver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 ¿ cuá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 ¿ có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 ¿ po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 ¿con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 ¿ con quié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dad ¿ 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¿cuá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gar ¿dónde? ¿ adónde? De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dón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o pre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fiere al sujeto o al complemento dir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 al verbo a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sintagma adjetival o n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 con verbos semicopul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ibuyen una cualidad con el pensamiento, palabra,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va con el verbo: parecer, aparecer, nacer, llegar a ser, morir, perman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r con otros verbos: 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22:15:10Z</dcterms:created>
  <dc:creator>AUDIOLEASK</dc:creator>
  <dc:description/>
  <dc:language>en-US</dc:language>
  <cp:lastModifiedBy>AUDIOLEASK</cp:lastModifiedBy>
  <dcterms:modified xsi:type="dcterms:W3CDTF">2014-03-27T22:45:23Z</dcterms:modified>
  <cp:revision>2</cp:revision>
  <dc:subject/>
  <dc:title>LAS FUNCIONES SINTÁCTICAS </dc:title>
</cp:coreProperties>
</file>